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519A-70DC-4074-8CF6-E4A986F1E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0F6E-5052-491C-B9D2-CE5184F386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FCF7-B303-474E-8D3F-5E872CD0DB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9D43-32E4-4D97-89F4-E2F550E45C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75A0-53ED-4C31-A5A5-FDFC70C994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CE77-5023-486C-9672-3B041E05D6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5AA0-B65C-46CD-AD3C-577CC91E3A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EE10-7FAE-4D6E-BCD7-318B76384B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E952-3196-447C-8EE0-323ECCA847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16E7-D01D-48BB-8FF6-E92AC506AD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ECFA-8B8B-40C3-A726-45DA0C49BF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4EAB-DE41-4DD4-AC30-30F7280F8F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87F6-83F6-4ACE-BB3C-5AC339F38B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3DF6-0D41-4311-B9D5-4FA81571AB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D6B3-8C0C-4D4F-9530-8CE069FF65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92C9-0E35-4CBD-B506-B56811F0FC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1F4B-9EBA-46B2-B428-9CAB4D3F1D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C075-61B1-4EE5-882E-302EADFBC7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9B34-7E28-4A97-B106-1EBA9EC7B2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F899-5914-4A9B-B6B1-1907DA0B89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9E0C-C7FC-4F93-A27F-33382E3F7D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8F10-8656-4531-BA5E-6A06FDE85D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CE11-A7D2-424F-86A2-A1A120FFB9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BD61-8BFC-4F1F-99B0-07C4E3D82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55F3-3276-48A2-BD5A-6171E79C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6017-D490-42D4-8F8F-0664E9A4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C23D-DA12-4C3A-B4DB-D7E9613C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BAB8-A0E8-4741-88F3-350B7954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233FD-DD30-4C11-8629-6C2286FD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A849-BC1F-4220-8AAE-DC2345C2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F35E-4539-4CC9-B637-DD3505C5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5922-49FF-4FCA-860B-37D8AC8D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01E2-1489-436C-B45F-A8D79DEA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C3CE9-CA63-4F3F-A776-4674C68B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9364-9000-41C2-AD9E-1B755B40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7F24-06BE-46F8-8AEA-7C28A380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425E-E58E-4950-88B8-01E69F15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7E89-D653-4F21-940F-FE32AA0C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A97D-F36A-4E21-B0A5-B1980A7EA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8456-2405-4BC4-9B65-A2778B1FB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6AF6-2E89-4038-BE1B-2D754089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45A9-BBF3-4002-989F-00A3D6B1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1DFF-FB31-4A57-AC10-AFA3E14F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E4E4-D8AE-477C-A55D-813F8F42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8C51-8F9D-418A-9D1C-5774BDDA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5406-8909-4229-9AE4-5B6F8C9D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0FF6-08B1-42CC-A598-2093DFAE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4990-EDDA-4E62-8DD1-00D0835A3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9D31-AD67-443E-8D60-29C08A4262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b9efee"/>
                </a:solidFill>
                <a:latin typeface="Garamond"/>
              </a:rPr>
              <a:t>Formato RAAB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b9efee"/>
                </a:solidFill>
                <a:latin typeface="Garamond"/>
              </a:rPr>
              <a:t>Como Afecta la Medida de AV en la Prevalencia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12960"/>
            <a:ext cx="822960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En promedio en un grupo de 50 pacientes se encuentr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ahoma"/>
              </a:rPr>
              <a:t>1 persona cieg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ahoma"/>
              </a:rPr>
              <a:t>3 personas con serios impedimentos visuales (SVI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  <a:ea typeface="Tahoma"/>
              </a:rPr>
              <a:t>¿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Cual es la prevalencia de la ceguera y del SVI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ahoma"/>
                <a:ea typeface="Tahoma"/>
              </a:rPr>
              <a:t>Ceguera: 2%; SVI: 6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Mal toma de medida  VI: para la misma etiqueta del grupo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ahoma"/>
              </a:rPr>
              <a:t>2 personas cieg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ahoma"/>
              </a:rPr>
              <a:t>2 personas con impedimentos visua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¿Cual es la prevalencia de la ceguera y del SVI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ahoma"/>
                <a:ea typeface="Tahoma"/>
              </a:rPr>
              <a:t>Ceguera: 4%; SVI: 4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50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66560" y="0"/>
            <a:ext cx="8282160" cy="49323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3922560" y="71280"/>
            <a:ext cx="4753080" cy="141300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324000" y="5114880"/>
            <a:ext cx="8640720" cy="14972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Examen cristalino en </a:t>
            </a:r>
            <a:r>
              <a:rPr b="1" lang="es-MX" sz="28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todos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 ojo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con linterna </a:t>
            </a:r>
            <a:r>
              <a:rPr b="1" lang="es-MX" sz="28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y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 oftalmoscopio directo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ahoma"/>
              </a:rPr>
              <a:t>sin tener en cuenta el estado visual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66560" y="0"/>
            <a:ext cx="8282160" cy="49323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3"/>
          <p:cNvSpPr/>
          <p:nvPr/>
        </p:nvSpPr>
        <p:spPr>
          <a:xfrm>
            <a:off x="3924360" y="1484280"/>
            <a:ext cx="4824360" cy="338472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468360" y="5043600"/>
            <a:ext cx="824400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ahoma"/>
              </a:rPr>
              <a:t>Razón de presencia de AV&lt;6/18(20/60) en ambos ojo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ahoma"/>
              </a:rPr>
              <a:t>Marca el problema principal: no examen si AV= 6/18 (20/60) o más en cada ojo: ponga el código =14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79280" y="1039680"/>
            <a:ext cx="8785440" cy="5268960"/>
          </a:xfrm>
          <a:prstGeom prst="rect">
            <a:avLst/>
          </a:prstGeom>
          <a:ln w="0">
            <a:noFill/>
          </a:ln>
        </p:spPr>
      </p:pic>
      <p:sp>
        <p:nvSpPr>
          <p:cNvPr id="157" name="Oval 5"/>
          <p:cNvSpPr/>
          <p:nvPr/>
        </p:nvSpPr>
        <p:spPr>
          <a:xfrm>
            <a:off x="2484360" y="2997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Oval 6"/>
          <p:cNvSpPr/>
          <p:nvPr/>
        </p:nvSpPr>
        <p:spPr>
          <a:xfrm>
            <a:off x="3203640" y="2997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Oval 7"/>
          <p:cNvSpPr/>
          <p:nvPr/>
        </p:nvSpPr>
        <p:spPr>
          <a:xfrm>
            <a:off x="2484360" y="465300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Oval 8"/>
          <p:cNvSpPr/>
          <p:nvPr/>
        </p:nvSpPr>
        <p:spPr>
          <a:xfrm>
            <a:off x="7308720" y="3789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Oval 9"/>
          <p:cNvSpPr/>
          <p:nvPr/>
        </p:nvSpPr>
        <p:spPr>
          <a:xfrm>
            <a:off x="7308720" y="141300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Oval 10"/>
          <p:cNvSpPr/>
          <p:nvPr/>
        </p:nvSpPr>
        <p:spPr>
          <a:xfrm>
            <a:off x="3203640" y="5013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Oval 11"/>
          <p:cNvSpPr/>
          <p:nvPr/>
        </p:nvSpPr>
        <p:spPr>
          <a:xfrm>
            <a:off x="8317080" y="155736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Oval 12"/>
          <p:cNvSpPr/>
          <p:nvPr/>
        </p:nvSpPr>
        <p:spPr>
          <a:xfrm>
            <a:off x="6588000" y="342900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Oval 13"/>
          <p:cNvSpPr/>
          <p:nvPr/>
        </p:nvSpPr>
        <p:spPr>
          <a:xfrm>
            <a:off x="8317080" y="342900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3125520" y="136440"/>
            <a:ext cx="22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 Unicode MS"/>
              </a:rPr>
              <a:t>Ejemplo 1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8785440" cy="5268960"/>
          </a:xfrm>
          <a:prstGeom prst="rect">
            <a:avLst/>
          </a:prstGeom>
          <a:ln w="0">
            <a:noFill/>
          </a:ln>
        </p:spPr>
      </p:pic>
      <p:sp>
        <p:nvSpPr>
          <p:cNvPr id="168" name="Oval 3"/>
          <p:cNvSpPr/>
          <p:nvPr/>
        </p:nvSpPr>
        <p:spPr>
          <a:xfrm>
            <a:off x="2484360" y="292572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3203640" y="292572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Oval 5"/>
          <p:cNvSpPr/>
          <p:nvPr/>
        </p:nvSpPr>
        <p:spPr>
          <a:xfrm>
            <a:off x="2484360" y="4940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Oval 6"/>
          <p:cNvSpPr/>
          <p:nvPr/>
        </p:nvSpPr>
        <p:spPr>
          <a:xfrm>
            <a:off x="7308720" y="335772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7308720" y="1916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Oval 8"/>
          <p:cNvSpPr/>
          <p:nvPr/>
        </p:nvSpPr>
        <p:spPr>
          <a:xfrm>
            <a:off x="3203640" y="457992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8317080" y="133992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6588000" y="393372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8317080" y="335772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3125520" y="136440"/>
            <a:ext cx="22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 Unicode MS"/>
              </a:rPr>
              <a:t>Ejemplo 2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8785440" cy="5268960"/>
          </a:xfrm>
          <a:prstGeom prst="rect">
            <a:avLst/>
          </a:prstGeom>
          <a:ln w="0">
            <a:noFill/>
          </a:ln>
        </p:spPr>
      </p:pic>
      <p:sp>
        <p:nvSpPr>
          <p:cNvPr id="179" name="Oval 3"/>
          <p:cNvSpPr/>
          <p:nvPr/>
        </p:nvSpPr>
        <p:spPr>
          <a:xfrm>
            <a:off x="2484360" y="314172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Oval 4"/>
          <p:cNvSpPr/>
          <p:nvPr/>
        </p:nvSpPr>
        <p:spPr>
          <a:xfrm>
            <a:off x="3203640" y="256392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Oval 5"/>
          <p:cNvSpPr/>
          <p:nvPr/>
        </p:nvSpPr>
        <p:spPr>
          <a:xfrm>
            <a:off x="2484360" y="515772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Oval 6"/>
          <p:cNvSpPr/>
          <p:nvPr/>
        </p:nvSpPr>
        <p:spPr>
          <a:xfrm>
            <a:off x="7308720" y="594828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Oval 7"/>
          <p:cNvSpPr/>
          <p:nvPr/>
        </p:nvSpPr>
        <p:spPr>
          <a:xfrm>
            <a:off x="7308720" y="1484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Oval 8"/>
          <p:cNvSpPr/>
          <p:nvPr/>
        </p:nvSpPr>
        <p:spPr>
          <a:xfrm>
            <a:off x="3203640" y="457992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Oval 9"/>
          <p:cNvSpPr/>
          <p:nvPr/>
        </p:nvSpPr>
        <p:spPr>
          <a:xfrm>
            <a:off x="8317080" y="191628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6588000" y="3716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Oval 11"/>
          <p:cNvSpPr/>
          <p:nvPr/>
        </p:nvSpPr>
        <p:spPr>
          <a:xfrm>
            <a:off x="8317080" y="5948280"/>
            <a:ext cx="1425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3125520" y="136440"/>
            <a:ext cx="22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 Unicode MS"/>
              </a:rPr>
              <a:t>Ejemplo 3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8785440" cy="5268960"/>
          </a:xfrm>
          <a:prstGeom prst="rect">
            <a:avLst/>
          </a:prstGeom>
          <a:ln w="0">
            <a:noFill/>
          </a:ln>
        </p:spPr>
      </p:pic>
      <p:sp>
        <p:nvSpPr>
          <p:cNvPr id="190" name="Oval 3"/>
          <p:cNvSpPr/>
          <p:nvPr/>
        </p:nvSpPr>
        <p:spPr>
          <a:xfrm>
            <a:off x="2484360" y="313992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Oval 4"/>
          <p:cNvSpPr/>
          <p:nvPr/>
        </p:nvSpPr>
        <p:spPr>
          <a:xfrm>
            <a:off x="3203640" y="313992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Oval 5"/>
          <p:cNvSpPr/>
          <p:nvPr/>
        </p:nvSpPr>
        <p:spPr>
          <a:xfrm>
            <a:off x="2486160" y="5156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Oval 6"/>
          <p:cNvSpPr/>
          <p:nvPr/>
        </p:nvSpPr>
        <p:spPr>
          <a:xfrm>
            <a:off x="7308720" y="5156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Oval 7"/>
          <p:cNvSpPr/>
          <p:nvPr/>
        </p:nvSpPr>
        <p:spPr>
          <a:xfrm>
            <a:off x="7308720" y="133992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Oval 8"/>
          <p:cNvSpPr/>
          <p:nvPr/>
        </p:nvSpPr>
        <p:spPr>
          <a:xfrm>
            <a:off x="3203640" y="5156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Oval 9"/>
          <p:cNvSpPr/>
          <p:nvPr/>
        </p:nvSpPr>
        <p:spPr>
          <a:xfrm>
            <a:off x="8317080" y="191628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Oval 10"/>
          <p:cNvSpPr/>
          <p:nvPr/>
        </p:nvSpPr>
        <p:spPr>
          <a:xfrm>
            <a:off x="6588000" y="5156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Oval 11"/>
          <p:cNvSpPr/>
          <p:nvPr/>
        </p:nvSpPr>
        <p:spPr>
          <a:xfrm>
            <a:off x="8317080" y="515628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3034080" y="136440"/>
            <a:ext cx="23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Garamond"/>
              </a:rPr>
              <a:t>Ejemplo</a:t>
            </a:r>
            <a:r>
              <a:rPr b="0" lang="nl-NL" sz="3600" spc="-1" strike="noStrike">
                <a:solidFill>
                  <a:srgbClr val="ffffff"/>
                </a:solidFill>
                <a:latin typeface="Arial Unicode MS"/>
              </a:rPr>
              <a:t> 4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8785440" cy="5268960"/>
          </a:xfrm>
          <a:prstGeom prst="rect">
            <a:avLst/>
          </a:prstGeom>
          <a:ln w="0">
            <a:noFill/>
          </a:ln>
        </p:spPr>
      </p:pic>
      <p:sp>
        <p:nvSpPr>
          <p:cNvPr id="201" name="Oval 3"/>
          <p:cNvSpPr/>
          <p:nvPr/>
        </p:nvSpPr>
        <p:spPr>
          <a:xfrm>
            <a:off x="2484360" y="2924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Oval 4"/>
          <p:cNvSpPr/>
          <p:nvPr/>
        </p:nvSpPr>
        <p:spPr>
          <a:xfrm>
            <a:off x="3203640" y="3789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Oval 5"/>
          <p:cNvSpPr/>
          <p:nvPr/>
        </p:nvSpPr>
        <p:spPr>
          <a:xfrm>
            <a:off x="2484360" y="457992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7308720" y="5156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7308720" y="1916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Oval 8"/>
          <p:cNvSpPr/>
          <p:nvPr/>
        </p:nvSpPr>
        <p:spPr>
          <a:xfrm>
            <a:off x="3203640" y="580536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Oval 9"/>
          <p:cNvSpPr/>
          <p:nvPr/>
        </p:nvSpPr>
        <p:spPr>
          <a:xfrm>
            <a:off x="8317080" y="133992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6588000" y="335772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8317080" y="335772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12"/>
          <p:cNvSpPr/>
          <p:nvPr/>
        </p:nvSpPr>
        <p:spPr>
          <a:xfrm>
            <a:off x="2700360" y="1364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Garamond"/>
              </a:rPr>
              <a:t>Ejemplo</a:t>
            </a:r>
            <a:r>
              <a:rPr b="1" lang="nl-NL" sz="4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 Unicode MS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8785440" cy="5268960"/>
          </a:xfrm>
          <a:prstGeom prst="rect">
            <a:avLst/>
          </a:prstGeom>
          <a:ln w="0">
            <a:noFill/>
          </a:ln>
        </p:spPr>
      </p:pic>
      <p:sp>
        <p:nvSpPr>
          <p:cNvPr id="212" name="Oval 3"/>
          <p:cNvSpPr/>
          <p:nvPr/>
        </p:nvSpPr>
        <p:spPr>
          <a:xfrm>
            <a:off x="2484360" y="2924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Oval 4"/>
          <p:cNvSpPr/>
          <p:nvPr/>
        </p:nvSpPr>
        <p:spPr>
          <a:xfrm>
            <a:off x="3203640" y="313992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Oval 5"/>
          <p:cNvSpPr/>
          <p:nvPr/>
        </p:nvSpPr>
        <p:spPr>
          <a:xfrm>
            <a:off x="2484360" y="4940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Oval 6"/>
          <p:cNvSpPr/>
          <p:nvPr/>
        </p:nvSpPr>
        <p:spPr>
          <a:xfrm>
            <a:off x="7308720" y="3932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Oval 7"/>
          <p:cNvSpPr/>
          <p:nvPr/>
        </p:nvSpPr>
        <p:spPr>
          <a:xfrm>
            <a:off x="7308720" y="1484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Oval 8"/>
          <p:cNvSpPr/>
          <p:nvPr/>
        </p:nvSpPr>
        <p:spPr>
          <a:xfrm>
            <a:off x="3203640" y="5156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Oval 9"/>
          <p:cNvSpPr/>
          <p:nvPr/>
        </p:nvSpPr>
        <p:spPr>
          <a:xfrm>
            <a:off x="8317080" y="2131920"/>
            <a:ext cx="1425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6588000" y="3716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Oval 11"/>
          <p:cNvSpPr/>
          <p:nvPr/>
        </p:nvSpPr>
        <p:spPr>
          <a:xfrm>
            <a:off x="8317080" y="371628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3031920" y="136440"/>
            <a:ext cx="258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Garamond"/>
              </a:rPr>
              <a:t>Ejemplo  </a:t>
            </a:r>
            <a:r>
              <a:rPr b="1" lang="nl-NL" sz="3600" spc="-1" strike="noStrike">
                <a:solidFill>
                  <a:srgbClr val="ffffff"/>
                </a:solidFill>
                <a:latin typeface="Arial Unicode MS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b9efee"/>
                </a:solidFill>
                <a:latin typeface="Garamond"/>
              </a:rPr>
              <a:t>Examen Oftalmológico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686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291600" indent="-2916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Error Refractivo: AV &lt;6/18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(20/60)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mejorando a 6/18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(20/60)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con pinhole/estenopeic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291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Cataratas: AV&lt;6/18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(20/60)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no mejorando con pinhole/estenopeico y los cristalinos obviamente opac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291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Afaquia sin corregir: VA &lt;6/18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(20/60)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 con afaquia, mejorando por lo menos en 6/60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(20/200)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 con pinhole/estenopeic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291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¿Que hacer si un ojo tuviera discapacidad visual 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¿Que hacer si un ojo tuviera diferentes causas de discapacidad visual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La causa más obvia es la princip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b9efee"/>
                </a:solidFill>
                <a:latin typeface="Garamond"/>
              </a:rPr>
              <a:t>Notas General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Oftalmólogo con asistente para medir todas las AV  (no debe hacerlo el asistente solo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Control de calidad de la medida de AV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Control de calidad de muestre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Roles usua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Oftalmólogo llena ficha y observ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El asistente sostiene el cuadro con optotipo 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Explicación por el oftalmólogo o por el asisten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El oftalmólogo verifica las fichas al final del dí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Formato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Llenar con lápiz y borrado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Llenar una ficha por pacien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Para cada sección llenar todas las preguntas (no deje nada en blanco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432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3"/>
          <p:cNvSpPr/>
          <p:nvPr/>
        </p:nvSpPr>
        <p:spPr>
          <a:xfrm>
            <a:off x="4356000" y="0"/>
            <a:ext cx="4753080" cy="465300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250920" y="4941720"/>
            <a:ext cx="8640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ahoma"/>
              </a:rPr>
              <a:t>Detalles sobre una operación de cataratas para pacientes con afaquia o seudofaquia en uno de los ojo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4356000" y="3284640"/>
            <a:ext cx="4788000" cy="129672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250920" y="6035760"/>
            <a:ext cx="864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ahoma"/>
              </a:rPr>
              <a:t>Refiérase a la sección C y D para determinar la causa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512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3"/>
          <p:cNvSpPr/>
          <p:nvPr/>
        </p:nvSpPr>
        <p:spPr>
          <a:xfrm>
            <a:off x="0" y="1916280"/>
            <a:ext cx="4356000" cy="26650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0" y="4794120"/>
            <a:ext cx="9144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ahoma"/>
              </a:rPr>
              <a:t>Barreras para cirugía de catarata en un ojo o en ambos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preguntar ¿“Por que no se ha operado de las cataratas 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ú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n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  <a:ea typeface="Tahoma"/>
              </a:rPr>
              <a:t>?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b9efee"/>
                </a:solidFill>
                <a:latin typeface="Garamond"/>
              </a:rPr>
              <a:t>¿Cómo se relaciona la información obtenida al resumen de los datos en el RAAB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0" y="1825560"/>
          <a:ext cx="9072720" cy="4718160"/>
        </p:xfrm>
        <a:graphic>
          <a:graphicData uri="http://schemas.openxmlformats.org/drawingml/2006/table">
            <a:tbl>
              <a:tblPr/>
              <a:tblGrid>
                <a:gridCol w="1893960"/>
                <a:gridCol w="1814400"/>
                <a:gridCol w="1655640"/>
                <a:gridCol w="1849680"/>
                <a:gridCol w="18590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Nuevo León, Méj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Bío Bío, Ch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Rep. Dominica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Ecuad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egue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.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.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.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atara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6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5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6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7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Evitab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8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7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8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9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obertura de Catarat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7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7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6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8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ala vision post o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Barrer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Ignorante de tratamiento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iedo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ontra-ind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Ignorante de tratamiento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, Imposibilidad de pag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Imposibilidad de pag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1619280" y="566640"/>
            <a:ext cx="576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b9efee"/>
                </a:solidFill>
                <a:latin typeface="Garamond"/>
              </a:rPr>
              <a:t>Información Gener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324000" y="4076640"/>
            <a:ext cx="856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Cuadrados: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un número por cuadrad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Línea: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escribir el tex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Pequeño círculo: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marcar con un asp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RAAB en una área: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escribir nombre del área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usar código de área 0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1300320"/>
            <a:ext cx="914400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2588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Line 3"/>
          <p:cNvSpPr/>
          <p:nvPr/>
        </p:nvSpPr>
        <p:spPr>
          <a:xfrm>
            <a:off x="2340000" y="4581360"/>
            <a:ext cx="3240000" cy="0"/>
          </a:xfrm>
          <a:prstGeom prst="line">
            <a:avLst/>
          </a:prstGeom>
          <a:ln w="63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5580000" y="3933720"/>
            <a:ext cx="3240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  <a:ea typeface="Tahoma"/>
              </a:rPr>
              <a:t>Historia si no fu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  <a:ea typeface="Tahoma"/>
              </a:rPr>
              <a:t>examina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1187280" y="620640"/>
            <a:ext cx="3889440" cy="43200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4932360" y="1052640"/>
            <a:ext cx="576360" cy="3313080"/>
          </a:xfrm>
          <a:prstGeom prst="line">
            <a:avLst/>
          </a:prstGeom>
          <a:ln w="63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Line 11"/>
          <p:cNvSpPr/>
          <p:nvPr/>
        </p:nvSpPr>
        <p:spPr>
          <a:xfrm>
            <a:off x="2340000" y="4581360"/>
            <a:ext cx="3240000" cy="0"/>
          </a:xfrm>
          <a:prstGeom prst="line">
            <a:avLst/>
          </a:prstGeom>
          <a:ln w="63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Line 12"/>
          <p:cNvSpPr/>
          <p:nvPr/>
        </p:nvSpPr>
        <p:spPr>
          <a:xfrm>
            <a:off x="4932360" y="1052640"/>
            <a:ext cx="576360" cy="3313080"/>
          </a:xfrm>
          <a:prstGeom prst="line">
            <a:avLst/>
          </a:prstGeom>
          <a:ln w="63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0" y="4365720"/>
            <a:ext cx="2340000" cy="93492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2340000" y="4581360"/>
            <a:ext cx="32400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Line 15"/>
          <p:cNvSpPr/>
          <p:nvPr/>
        </p:nvSpPr>
        <p:spPr>
          <a:xfrm>
            <a:off x="4932360" y="1052640"/>
            <a:ext cx="576360" cy="331308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1280" y="1773360"/>
            <a:ext cx="7772400" cy="2087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b9efee"/>
                </a:solidFill>
                <a:latin typeface="Garamond"/>
              </a:rPr>
              <a:t>¿Como convencería Ud. a alguien que se rehusara a ser examinado?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5"/>
          <p:cNvSpPr/>
          <p:nvPr/>
        </p:nvSpPr>
        <p:spPr>
          <a:xfrm>
            <a:off x="108000" y="907920"/>
            <a:ext cx="3743280" cy="5257800"/>
          </a:xfrm>
          <a:prstGeom prst="rect">
            <a:avLst/>
          </a:prstGeom>
          <a:noFill/>
          <a:ln w="63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3921120" y="388800"/>
            <a:ext cx="5040360" cy="63572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untos clave para formulario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0000" indent="-270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Mencione el uso de anteojo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0000" indent="-270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Medida de la visió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0000" indent="-270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Mida AV en ambos ojos: primero el derecho y después el izquierd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0000" indent="-2700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consideran 4 de 5 respuestas acertadas en cada reglón para marcar como respuesta correc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0000" indent="-2700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mience con 6/60 (20/200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0000" indent="-2700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Use el pinhole/estenopeico AVP&lt;6/18, (20/60) empezando con la última medida tomad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54080" y="907920"/>
            <a:ext cx="3697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b9efee"/>
                </a:solidFill>
                <a:latin typeface="Garamond"/>
              </a:rPr>
              <a:t>La medida precisa de la AV es </a:t>
            </a:r>
            <a:r>
              <a:rPr b="1" lang="es-MX" sz="5400" spc="-1" strike="noStrike" u="sng">
                <a:solidFill>
                  <a:srgbClr val="b9efee"/>
                </a:solidFill>
                <a:uFillTx/>
                <a:latin typeface="Garamond"/>
              </a:rPr>
              <a:t>crucial!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b9efee"/>
                </a:solidFill>
                <a:latin typeface="Garamond"/>
              </a:rPr>
              <a:t>Precisión Visual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Verifique condiciones para las medidas de AV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ahoma"/>
              </a:rPr>
              <a:t>Persona en la sombr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ahoma"/>
              </a:rPr>
              <a:t>E en la luz, pero no en el brillo sola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ahoma"/>
              </a:rPr>
              <a:t>Explique correctamente (particularmente el pinhole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ahoma"/>
              </a:rPr>
              <a:t>No se apresu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ahoma"/>
              </a:rPr>
              <a:t>Que el paciente no pestañe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ahoma"/>
              </a:rPr>
              <a:t>Ajuste fijamente el cuadro 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ahoma"/>
              </a:rPr>
              <a:t>Si se equivocan, continú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Pinhole/Estenopeic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ahoma"/>
              </a:rPr>
              <a:t>Haga el pinhole test si el  AVP&lt; es 6/18 (20/60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ahoma"/>
              </a:rPr>
              <a:t>Use primero el optotipo  20/200 (6/60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ahoma"/>
              </a:rPr>
              <a:t>Por lo general,  con Pinhole al menos tan buena como la AVP - a menudo mucho mejor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b9efee"/>
                </a:solidFill>
                <a:latin typeface="Times New Roman"/>
                <a:ea typeface="Tahoma"/>
              </a:rPr>
              <a:t>Vislumbrando </a:t>
            </a:r>
            <a:r>
              <a:rPr b="1" lang="es-MX" sz="4400" spc="-1" strike="noStrike">
                <a:solidFill>
                  <a:srgbClr val="b9efee"/>
                </a:solidFill>
                <a:latin typeface="Times New Roman"/>
              </a:rPr>
              <a:t>Problemas</a:t>
            </a:r>
            <a:r>
              <a:rPr b="1" lang="es-MX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¿Qué hacer si 3 de las 5 medidas son correcta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¿Podría ser la visión pinhole peor que la AVP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ahoma"/>
              </a:rPr>
              <a:t>¿Qué pasa si no están usando anteojos y los dejaron en la casa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5T02:26:06Z</dcterms:created>
  <dc:creator> </dc:creator>
  <dc:description/>
  <dc:language>en-US</dc:language>
  <cp:lastModifiedBy>Hans Limburg</cp:lastModifiedBy>
  <dcterms:modified xsi:type="dcterms:W3CDTF">2012-12-18T21:09:15Z</dcterms:modified>
  <cp:revision>71</cp:revision>
  <dc:subject/>
  <dc:title>Slide 1</dc:title>
</cp:coreProperties>
</file>